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1E1-8932-4949-A7BC-CCE81C5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968-8B51-417E-8DF1-D8C983B9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1CC-B2BD-40C6-BB67-E5BC48F1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21E-6477-4689-B77D-DB2FFE0F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53DC-EEEB-47CB-A636-42AA0435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43D4-B17D-4EA9-8F95-C67E3AA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CE3F-E826-4DA2-AABC-CCD74BEE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844-4551-4780-A77D-A942E0B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BF0-71B5-462F-B107-B5E14A2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8768-A3E3-4D1F-855F-5CE9C465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1841-0105-43C4-A5EF-6D1289C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A54-C939-4ED7-9277-CF72C102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57A9-E385-4760-9833-6F88E2B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DA2-6835-4E35-9723-81A4D8C5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9F72-4B3C-4D5C-B8B6-3299AB7D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96B8-8E9B-46D9-A1E0-E7CCCB0F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9AF9-DD84-4326-B5E3-0485129F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F5A-DD3A-4A56-A5DA-6FFBE867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ECD-378D-4A99-88EC-35DC1DE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87D-89C6-4AEA-B25D-97F03A66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D7C-DA04-4D17-BAA9-D7C63BC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755-454D-4EA3-87D9-BBA6440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A24-02D0-41F5-B59A-BF124359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8C3-1432-4A96-9774-11694F4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9FDB-2ED5-4681-B4D3-250789430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8237-F7F6-401B-A5EE-494B12EDB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yrannosaurus Rex Facts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Enrichment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about the T. Re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. Rex fossils have been found in the western U.S. and Can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rannosaurus Rex needed to eat 6 tons of meat every week or it would di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rp claws on the Tyrannosaurus’s feet could tear through other dinosaurs’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tlyn McClos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. Rex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. Rex fossils were found in Montana in 19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. Rex can tear 441 lb. in one b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ill the weakest members of a herd. (young and ol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esh and other organs rot away when an animal dies leaving the skel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ylor Sm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. Rex Fact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. Rex was around 65 to 68 million years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. Rex has 2 claws on its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. Rex is famous for many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ers of sand and mud cover bones and te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e Schl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we all thin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think that the T Rex was the most fearsome dinosa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think that when  the T Rex died the T Rex’s bones spread a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think the T Rex weighed about 5 tons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4:48:21Z</dcterms:created>
  <dc:creator>Montour School District</dc:creator>
  <dc:description/>
  <dc:language>en-US</dc:language>
  <cp:lastModifiedBy>Montour School District</cp:lastModifiedBy>
  <dcterms:modified xsi:type="dcterms:W3CDTF">2008-05-21T16:13:23Z</dcterms:modified>
  <cp:revision>7</cp:revision>
  <dc:subject/>
  <dc:title>Tyrannosaurus Rex Facts </dc:title>
</cp:coreProperties>
</file>